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9021-3B10-4009-8257-911CF3171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1C7C-5581-4635-A03F-AE2B9FCF3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592E-08C3-4D1E-A747-376F95E6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0801-B619-491D-84E0-DBDF3DC8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93B9-6184-417F-885E-23572FC54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1B69-B9AA-4D6A-8265-9B8679E75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A6F-2FE3-4C2F-8B33-4A96D54D1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AC6C-AB49-47B7-B8D6-B20ACEA5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5649-F1E3-4E5B-B884-3ECD1264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8998-F09C-40AA-BD5E-573842B4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0B70-1AC3-447B-938D-578FB544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75A2B-90ED-4EB4-BE75-1152A55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41F0-F692-4E6F-A0D8-152F82CC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6743-B53B-479B-BA65-7528BB7C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344A-414C-4E8E-830D-F958A538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247D-C985-45FA-A70B-AD3126B8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D14A-9686-4407-B589-9BEF2DEE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68E8-D4FF-4315-836F-16F14AF5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3B37-8D06-4BA0-B590-90461F5B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2021-3D3E-48D5-90C3-53AACEE3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D1EB-8049-472B-AEB9-22FC9E3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FA51-B557-4057-AF51-3E899F99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99D8-7566-4929-9BC5-27CDECCA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3927-23FA-4188-9CD0-42BCBD27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2227-9D0D-4B33-BC8E-154BFD96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CD96-EA61-48CE-B336-B88F1C37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660C-A3C4-4D7E-B8B7-2259DE1D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C4CF-0EBD-4849-9181-789826AE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7C6E-0CAF-4559-8574-030F76D0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35B4-C506-4456-9A66-8926C73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FEBB-6B1B-4E33-B054-DAE54BE5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B59E-DE6B-4EBE-9FD9-9271729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AD78-2A45-4B69-8205-9042757D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03B5-9B9C-43A2-AADD-907005B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5A64-CC64-4BA8-B13C-9E671AF313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3ED8-6C8B-4548-832F-640C86A797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 Bold"/>
              </a:rPr>
              <a:t>Recent U.S. policy develo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Garamond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First to introduce trace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Garamond"/>
              </a:rPr>
              <a:t>Food Safety Modernization Ac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Preventive contro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Inspection and compli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Imported food safe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Enhanced partnershi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conomic impacts on food mark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echnical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o what extent can regulations lead to cost sav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llocative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evious research suggests risk based regulations increase concen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ynamic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conomic theory suggests performance standards foster innovation and adap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o we need a comprehensive frame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nmarket imp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od safety and traceability improvements impact public health outco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ever, there are concerns over wide access to safe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easuring nonmarket impacts is challe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re are no clear cut ways to measure “distributive justice” of alternative poli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3040" y="549360"/>
            <a:ext cx="8686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on the horizo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946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lobalization of food supply is creating new challeng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creasingly entwined supply cha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ternational sou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Short run contractual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6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440" indent="-316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he U.S. debate on a single food safety ag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Pros: Risk-based, consistent, public health foc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s: Excessive centralized power, bureaucratic, budg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earc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termine how to best define a food chain wide traceability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aking into account technical and economic dimen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scertain to what extent new regulations will impact technical efficiencies in the food ch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vestigate whether HACCP regulations had a positive/negative impact on food innov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velop a comprehensive framework to determine food safety policy impact on technical, allocative and dynamic efficien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rap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ood safety is critical to food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raceability system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nable a more effective management of outbrea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ntain information for enhanced risk 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ince 1906 the U.S. has led food safety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 terms of institutional and regulatory innov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ver the past decade a number of private food safety schemes have emer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ese are mainly farm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uture challenges relate to increasing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Globalized, connected and integrated food ch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Food Safety and Traceability polici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ogo M. Souza Montei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al H. Hoo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food safety and traceabilit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y do we need polic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 overview of food safety policies in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o is involv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Bioterrorism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Food Safety Modernization 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conomic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on the horiz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76680" y="151920"/>
            <a:ext cx="9525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food safety and traceabilit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979560"/>
            <a:ext cx="86868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Food safety concerns the supply of wholesome and unharmful food to customers and consu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440" indent="-25272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Improving food safety is reducing a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440" indent="-25272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Consumers expect safe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Traceability is the ability to follow the path of a product through production, processing an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Well designed and effective traceability systems may mitigate the consequences of food safety outbrea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Why do we need polic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Times New Roman"/>
              </a:rPr>
              <a:t>Food safety and traceability are credence attributes of foo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Benefits are mainly avoided public health cost (publ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Costs of safer food are mainly borne by the industry (privat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re are both market and government failures in the provision of these attrib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 of U.S. food safety poli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9800" y="875880"/>
            <a:ext cx="8739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rst food safety regulation was issued in 19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in purpose was to limit adulteration of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DA is creat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uring the 1970/80s legislation followed a command and control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r example, mandatory pasteurization of dairy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990 shift to science/risk based appr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r example, mandatory HACCP in meat and poultry pl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 implements these polic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9800" y="952200"/>
            <a:ext cx="8739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U.S., three Federal Departments have primary responsibilities over food safe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Health &amp; Human Services (through FDA, CD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Agriculture (FSIS, AMS, APHI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Home Security (CBP, NBAC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wo agencies have the lion’s share of oversigh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S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tates have an important role in outbreak surveillance, prevention and mitig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vate food safety and traceability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ince 2000, a number of retailers/caterers and food manufacturers created private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or example EurepGAP (now GlobalG.A.P.), a modular farm production standard with both food safety and traceability fea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imilar efforts in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May have emerged due to slow legislative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dustry initiatives may condition and anchor the regulatory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vate food safety and traceability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Benefits of these private standards 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Flexibility and dynamism (they are quickly updat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Create strong incentives for farmers and processors to adopt safer practices (through preferred supplier progr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Create a safer food supply to all of those purchasing from firms imposing these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The are however some issu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Private standards do not take social welfare into accou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Exclude producers and consumers that can’t comply or afford these produ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There may be distribution and equity issues in the benefits and costs of food safety/traceability in food chai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5T15:55:35Z</dcterms:modified>
  <cp:revision>18</cp:revision>
  <dc:subject/>
  <dc:title>U.S. Policies Affecting Food and Agricultural Marketing</dc:title>
</cp:coreProperties>
</file>